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E4475-332B-47EC-B8D8-5BF45DB5D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52BB-18BB-4B7F-9B59-C6DE51EF0F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766DE-8075-45AB-BBA8-7DAEFA71A0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47528-1B56-4F97-907A-E998D72CF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DF08D-F3D0-44C4-8505-4AA6C443BF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D151C-9D51-431F-8E05-1E1EDD5491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07426-6065-4726-A218-71DF52BAF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E2C53-8224-4545-9883-E81EAC40E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6C7-E76A-4873-8A52-2CD3EB0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70B-286E-426F-9F28-00FD9C2F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006-E2A5-466E-AF24-9D489BBF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966-2AC7-4330-B3D0-B7E71B46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3CD-EE5E-47A5-BCD5-F41551A7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36D-4E7F-4ACF-BF1D-843233E5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22F-96B9-4C38-8D81-7365DD3F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C59-387D-409E-A930-F44B73E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C96-5103-4451-AD18-03E2A099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834-45F5-479F-8793-3449A38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0EC-812B-4FEC-BF6E-4A7A155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7DA-52A3-42D2-8A29-14566F28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5050-8E8A-4357-BDD2-920BA825DE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79800" y="2103480"/>
            <a:ext cx="762696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ow Great Is 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splendor of the K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othed in majes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et all the earth rej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ll the earth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 wraps Himself in l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darkness tries to h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rembles at His vo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rembles at His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20640" y="1862280"/>
            <a:ext cx="876312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ge to age He st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time is in His ha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ginning and 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Godhead, three in 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ather, Spirit, S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Lion and the La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20640" y="1862280"/>
            <a:ext cx="87631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ame above all nam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rthy of all pra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y heart will 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20640" y="1862280"/>
            <a:ext cx="87631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sing with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 is our God, all will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ow great, how great is 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1-06-08T04:58:00Z</dcterms:modified>
  <cp:revision>28</cp:revision>
  <dc:subject/>
  <dc:title>Slide 1</dc:title>
</cp:coreProperties>
</file>